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2177-921B-45C2-B967-10ED820BE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08AD-AB00-4970-A015-4C77A5B35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6DFA-EB07-4E45-85D4-CD5AA165D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ECF2-597E-43D4-991C-8968FCBB8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39AC-26AF-4CE5-AC14-1BABE056B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7F05-F37E-4E44-A446-FD52BC54E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C45E-1439-4C2E-AB08-74E70CC1B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3D90-141E-488A-81D7-4060A4DC1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9060-D8CE-4C2B-A37A-BB43F226C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9D09-9558-48E3-87BE-8D40E7C5C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5D28-FED9-4628-B76F-4E54D3243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227B-1354-4DF2-8156-285745F63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C293D-AFA3-4F30-BFF6-CEBEF3D629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691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.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LNAs Bias Supply Block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4365720"/>
            <a:ext cx="108108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4581360"/>
            <a:ext cx="936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938920" y="5014800"/>
            <a:ext cx="151272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227640" y="4799160"/>
            <a:ext cx="2890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75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22764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37056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3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02000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020000" y="2565360"/>
            <a:ext cx="0" cy="223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372360" y="299736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62200" y="2133720"/>
            <a:ext cx="1514520" cy="381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63640" y="5373720"/>
            <a:ext cx="15130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57480" y="285264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56040" y="3427560"/>
            <a:ext cx="215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911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24320" y="1341360"/>
            <a:ext cx="65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135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49760" y="1341360"/>
            <a:ext cx="566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55888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1800" y="134136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1640" y="5013360"/>
            <a:ext cx="1368360" cy="93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3480" y="400536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4570560" y="4005360"/>
            <a:ext cx="1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29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7236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29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37236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2308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7708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2000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78520" y="515772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0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78520" y="523080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75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188240" y="5373720"/>
            <a:ext cx="137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1st Conver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27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7528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27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056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1964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2908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2908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27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7672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19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7852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2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7852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752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79640" y="2349360"/>
            <a:ext cx="1079640" cy="187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2997360"/>
            <a:ext cx="115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NAs Bias 7 PC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57480" y="242100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57480" y="3860640"/>
            <a:ext cx="21600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73480" y="357336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219640" y="3573360"/>
            <a:ext cx="0" cy="122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73480" y="2997360"/>
            <a:ext cx="30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350880" y="2781360"/>
            <a:ext cx="183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L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73480" y="2565360"/>
            <a:ext cx="37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51240" y="2349360"/>
            <a:ext cx="186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54840" y="335772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54840" y="378936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55640" y="5373720"/>
            <a:ext cx="108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.Cattani</cp:lastModifiedBy>
  <dcterms:modified xsi:type="dcterms:W3CDTF">2008-09-11T13:44:54Z</dcterms:modified>
  <cp:revision>33</cp:revision>
  <dc:subject/>
  <dc:title>Schema a blocchi controllo Dewar</dc:title>
</cp:coreProperties>
</file>