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D62F-2CFD-4600-9CCE-A1EEB470B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A729-3A10-4E2B-886D-8C5A38D54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AB82-9825-4351-BB18-73AC58055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E87F-8FE7-440E-B9AB-2E4793F9D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2B8F-E0AD-4063-A81D-E3192C4D0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9DD1-48CB-485C-98E6-707600286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BF9F-6A92-4FF7-9436-35C6739ED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FFC2-16F9-49B4-841C-873B1AF58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9BB0-7039-487C-9220-9127CE96A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55F1-6391-411C-BD6E-2F542BD03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814C-888C-4AEA-AA55-EC09EBF7B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940D-362C-4696-89D2-3EF6C0C74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14F54-6406-4041-88C4-881D9FF95E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475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-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Control System Block Diagram (2nd Vers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92360" y="3357720"/>
            <a:ext cx="1150920" cy="151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38606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ck-Plane Adap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24360" y="5157720"/>
            <a:ext cx="27352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67280" y="4581360"/>
            <a:ext cx="288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38560" y="501336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95640" y="4653000"/>
            <a:ext cx="43200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Gaug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788000" y="4797360"/>
            <a:ext cx="730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0872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4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0072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5636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7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43280" y="450864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11640" y="4292640"/>
            <a:ext cx="1440" cy="288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060360" y="429264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060720" y="393372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788000" y="3933360"/>
            <a:ext cx="1440" cy="57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50872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5308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65164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060720" y="357336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058920" y="242100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65308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7640" y="1773360"/>
            <a:ext cx="100620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ower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435280" y="2492280"/>
            <a:ext cx="1366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492000" y="2852640"/>
            <a:ext cx="431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812000" y="2852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33800" y="3357720"/>
            <a:ext cx="33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YO TEMP &amp; CAL NOISE CONTR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39200" y="3716280"/>
            <a:ext cx="21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TENNA UNIT POWER SUP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37760" y="4076640"/>
            <a:ext cx="15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GAUGE CTR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35640" y="1844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VALVE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5640" y="227664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WAR HEA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572000" y="1557000"/>
            <a:ext cx="0" cy="214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211640" y="1197000"/>
            <a:ext cx="72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5435640" y="2276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74920" y="2060640"/>
            <a:ext cx="1584360" cy="403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74920" y="5589720"/>
            <a:ext cx="151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96360" y="5157720"/>
            <a:ext cx="8650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u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020000" y="580536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659640" y="5877000"/>
            <a:ext cx="36036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451640" y="5877000"/>
            <a:ext cx="14472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7236000" y="2060640"/>
            <a:ext cx="0" cy="37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8244000" y="1844280"/>
            <a:ext cx="0" cy="331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92720" y="162864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MAIN PO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5292720" y="155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859280" y="1197000"/>
            <a:ext cx="930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04000" y="5300640"/>
            <a:ext cx="287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659640" y="537372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04000" y="53006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ool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35640" y="2060640"/>
            <a:ext cx="187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 POWER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435280" y="206064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6948360" y="227664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84360" y="2349360"/>
            <a:ext cx="57492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43280" y="3860640"/>
            <a:ext cx="2174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3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43280" y="3500280"/>
            <a:ext cx="21600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43280" y="422100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265480" y="1773360"/>
            <a:ext cx="144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1413000"/>
            <a:ext cx="71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1186920" y="4797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28720" y="4581360"/>
            <a:ext cx="5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186920" y="5300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01800" y="508464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43280" y="458136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03640" y="5157720"/>
            <a:ext cx="576360" cy="93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nv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60720" y="4653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92360" y="465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33800" y="4437000"/>
            <a:ext cx="132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X I/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5229360"/>
            <a:ext cx="43164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Local Oscillato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9236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0364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1636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508720" y="5373720"/>
            <a:ext cx="28728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al Noi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83280" y="5229360"/>
            <a:ext cx="43200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D / VLBI MOD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932360" y="4797360"/>
            <a:ext cx="36036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PAR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74920" y="3357720"/>
            <a:ext cx="21564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435640" y="1844640"/>
            <a:ext cx="280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35280" y="2637000"/>
            <a:ext cx="194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1114200" y="34322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74920" y="364500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74920" y="400536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0072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6920" y="530064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3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51640" y="530064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4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74920" y="436572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186920" y="371808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186920" y="407844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186920" y="443880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9640" y="2924280"/>
            <a:ext cx="974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CK-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 SYN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2560" y="350208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2560" y="386244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2560" y="422280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90560" y="5013360"/>
            <a:ext cx="11527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43280" y="263700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74920" y="5229360"/>
            <a:ext cx="21564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J4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68360" y="2276640"/>
            <a:ext cx="214560" cy="86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161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4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74920" y="472428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835280" y="4869000"/>
            <a:ext cx="86508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 41612 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96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92360" y="2276640"/>
            <a:ext cx="576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68360" y="3141720"/>
            <a:ext cx="216000" cy="2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292428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2708280"/>
            <a:ext cx="14292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3058920" y="270792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32720" y="2924280"/>
            <a:ext cx="511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DIXE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32000" y="2565360"/>
            <a:ext cx="576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ARIA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3058920" y="292428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627280" y="2637000"/>
            <a:ext cx="217440" cy="43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56000" y="270828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NT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ON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19640" y="472428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5BI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/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76360" y="6237360"/>
            <a:ext cx="2016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USE ‘D’ 37F CONNECTORS FOR LNAs BI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lessandro Cattani</cp:lastModifiedBy>
  <dcterms:modified xsi:type="dcterms:W3CDTF">2009-09-28T13:48:06Z</dcterms:modified>
  <cp:revision>80</cp:revision>
  <dc:subject/>
  <dc:title>Schema a blocchi controllo Dewar</dc:title>
</cp:coreProperties>
</file>