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18300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FD46D-6A6E-4720-808D-F59F89340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0A5AE-BE0E-4303-A998-E047B6CB0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2F7AE-3186-44FC-8847-5BB169B06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DBCA6-DAB5-455D-8F05-2A428EF54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DC316-0E0A-4996-AB87-0ADE4330E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CDEB1-FE4A-463E-8FDE-5D8C1AB69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DB51B-64CF-43EE-80F2-4E164D30A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E7E87-3F28-4095-8593-E9026A1F8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113D7-D15F-40DC-9320-646C5CFC3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0F1F7-8BA7-4AA4-8EA7-39BAFF8F3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77934-FBD6-425F-834C-A54BA3F0D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33B0A-B5CF-4E7F-95A7-4A5FB080B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9ED26-28AE-4064-8713-BA6D9C631F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560" y="691920"/>
            <a:ext cx="4969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Rx 18.26 GHz</a:t>
            </a:r>
            <a:br>
              <a:rPr sz="1800"/>
            </a:b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LNAs Bias Supply Block Dia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4365720"/>
            <a:ext cx="108108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50920" y="4581360"/>
            <a:ext cx="9367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µ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938920" y="5014800"/>
            <a:ext cx="151272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227640" y="4799160"/>
            <a:ext cx="28908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50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7564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50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22764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37056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37056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02000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020000" y="2565360"/>
            <a:ext cx="0" cy="223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372360" y="299736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62200" y="2133720"/>
            <a:ext cx="1514520" cy="381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63640" y="5373720"/>
            <a:ext cx="151308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eceiver Control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57480" y="2852640"/>
            <a:ext cx="216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50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56040" y="3427560"/>
            <a:ext cx="215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191124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24320" y="1341360"/>
            <a:ext cx="65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313524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849760" y="1341360"/>
            <a:ext cx="566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S2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255888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341800" y="134136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1640" y="5013360"/>
            <a:ext cx="1368360" cy="93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73480" y="400536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4570560" y="4005360"/>
            <a:ext cx="144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229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37236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29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37236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23088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87708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02000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878520" y="5157720"/>
            <a:ext cx="14472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021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878520" y="523080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021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87564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188240" y="5373720"/>
            <a:ext cx="1372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1st Conver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7+7 LN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42764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07528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42764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57056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57056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1964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2908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2908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200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2764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07672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1964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07852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221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07852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21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07528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79640" y="2349360"/>
            <a:ext cx="1079640" cy="187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08000" y="2997360"/>
            <a:ext cx="1152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LNAs Bias 7 PC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057480" y="2421000"/>
            <a:ext cx="216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50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057480" y="3860640"/>
            <a:ext cx="216000" cy="28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273480" y="357336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219640" y="3573360"/>
            <a:ext cx="0" cy="122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73480" y="2997360"/>
            <a:ext cx="30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350880" y="2781360"/>
            <a:ext cx="183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LHCP LNAs BIAS (COOL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273480" y="2565360"/>
            <a:ext cx="37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351240" y="2349360"/>
            <a:ext cx="1860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COOL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54840" y="3357720"/>
            <a:ext cx="172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WAR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54840" y="3789360"/>
            <a:ext cx="172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WAR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155640" y="5373720"/>
            <a:ext cx="1087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ew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7+7 LN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5T13:58:58Z</dcterms:created>
  <dc:creator>A.Cattani</dc:creator>
  <dc:description/>
  <dc:language>en-US</dc:language>
  <cp:lastModifiedBy>A.Cattani</cp:lastModifiedBy>
  <dcterms:modified xsi:type="dcterms:W3CDTF">2008-09-11T13:44:54Z</dcterms:modified>
  <cp:revision>33</cp:revision>
  <dc:subject/>
  <dc:title>Schema a blocchi controllo Dewar</dc:title>
</cp:coreProperties>
</file>