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18300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E0AB-8A79-47C6-A512-C7C618143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6E628-D88C-44E2-8E72-2123EBC5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DACC1-4876-431D-869D-9902DBBC57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5D554-CCF2-4A6D-9F7A-4C1C8E6AB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ACE2-8A40-4F02-8B65-33006F379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16E0-430D-4D2C-A049-8796BFD44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2D4EA-3922-446A-A0DA-8B81937EC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0AEB-275B-46DC-8344-CB5A7833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5D1D-ACF4-49C8-96B3-445016DEC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ED9B-75D8-4E31-A25C-66B73B013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EB0E-1933-4FA2-8519-28EB79A65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CC5A3-F26E-4A5A-BD52-1E718F337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BE2D6-9170-40C9-A2A6-5602FDAD97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050560" y="691920"/>
            <a:ext cx="496908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Rx 18.26 GHz</a:t>
            </a:r>
            <a:br>
              <a:rPr sz="1800"/>
            </a:b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LNAs Bias Supply Block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365720"/>
            <a:ext cx="1081080" cy="863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50920" y="4581360"/>
            <a:ext cx="9367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µP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#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38920" y="5014800"/>
            <a:ext cx="1512720" cy="936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227640" y="4799160"/>
            <a:ext cx="28908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c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75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Fisher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" spc="-1" strike="noStrike">
                <a:solidFill>
                  <a:srgbClr val="000000"/>
                </a:solidFill>
                <a:latin typeface="Arial"/>
              </a:rPr>
              <a:t>50 Ways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22764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7056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3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02000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20000" y="2565360"/>
            <a:ext cx="0" cy="2233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372360" y="2997360"/>
            <a:ext cx="0" cy="180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62200" y="2133720"/>
            <a:ext cx="1514520" cy="381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63640" y="5373720"/>
            <a:ext cx="1513080" cy="8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Receiver Control Bo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57480" y="285264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056040" y="3427560"/>
            <a:ext cx="215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1911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624320" y="1341360"/>
            <a:ext cx="650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20VA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313524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849760" y="1341360"/>
            <a:ext cx="566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S2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558880" y="1701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341800" y="1341360"/>
            <a:ext cx="426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11640" y="5013360"/>
            <a:ext cx="1368360" cy="93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3480" y="400536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4570560" y="4005360"/>
            <a:ext cx="14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29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229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37236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2308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87708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02000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878520" y="5157720"/>
            <a:ext cx="14472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70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8520" y="523080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0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875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88240" y="5373720"/>
            <a:ext cx="1372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1st Conver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42764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075280" y="4799160"/>
            <a:ext cx="288720" cy="215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M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27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056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57056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219640" y="5014800"/>
            <a:ext cx="0" cy="7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2908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42908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7200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2764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L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076720" y="5086440"/>
            <a:ext cx="14472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1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508644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2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852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3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221440" y="515772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4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7852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5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221440" y="5230800"/>
            <a:ext cx="144360" cy="71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6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075280" y="5302080"/>
            <a:ext cx="144360" cy="71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R7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79640" y="2349360"/>
            <a:ext cx="1079640" cy="1873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908000" y="2997360"/>
            <a:ext cx="11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LNAs Bias 7 PCB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057480" y="2421000"/>
            <a:ext cx="216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50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057480" y="3860640"/>
            <a:ext cx="216000" cy="28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400" spc="-1" strike="noStrike">
                <a:solidFill>
                  <a:srgbClr val="000000"/>
                </a:solidFill>
                <a:latin typeface="Arial"/>
              </a:rPr>
              <a:t>D’ 37F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73480" y="3573360"/>
            <a:ext cx="19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219640" y="3573360"/>
            <a:ext cx="0" cy="122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3480" y="2997360"/>
            <a:ext cx="30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350880" y="2781360"/>
            <a:ext cx="1838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L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73480" y="2565360"/>
            <a:ext cx="374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351240" y="2349360"/>
            <a:ext cx="1860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COOL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354840" y="335772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54840" y="3789360"/>
            <a:ext cx="1724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Arial"/>
              </a:rPr>
              <a:t>RHCP LNAs BIAS (WARM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5640" y="5373720"/>
            <a:ext cx="108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ew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7+7 LNA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5T13:58:58Z</dcterms:created>
  <dc:creator>A.Cattani</dc:creator>
  <dc:description/>
  <dc:language>en-US</dc:language>
  <cp:lastModifiedBy>A.Cattani</cp:lastModifiedBy>
  <dcterms:modified xsi:type="dcterms:W3CDTF">2008-09-11T13:44:54Z</dcterms:modified>
  <cp:revision>33</cp:revision>
  <dc:subject/>
  <dc:title>Schema a blocchi controllo Dewar</dc:title>
</cp:coreProperties>
</file>