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02941-CDC0-45CF-88AF-5AD4C2C36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6BC2-573D-41A3-BA6E-60831A9FA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C0CC-AADE-431B-A283-88851C8BA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2444-7B23-4555-BC82-B758E09E9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EFA12-0B7A-4700-A903-A4559DACC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25A7-C909-4E0F-B77A-47435E2BB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F6A8-188A-429D-9584-701154D4A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407D-E022-4E36-92EB-CFF94B497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E192-1CDF-4ACA-B14A-46546FB062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31E7-833B-439E-84A6-BD7E52A72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B101-8393-462C-B953-E3C35C775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91B8-E47B-4E74-8940-A566E039B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62254-CC18-4E65-A06F-60F8C982DC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475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-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ntrol System Block Diagram (2nd Vers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92360" y="3357720"/>
            <a:ext cx="1150920" cy="151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619280" y="3860640"/>
            <a:ext cx="1295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Back-Plane Adap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24360" y="5157720"/>
            <a:ext cx="27352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7280" y="4581360"/>
            <a:ext cx="288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138560" y="501336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95640" y="4653000"/>
            <a:ext cx="432000" cy="2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Gaug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88000" y="4797360"/>
            <a:ext cx="730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50872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4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00720" y="544500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156360" y="4941720"/>
            <a:ext cx="28872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7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3280" y="450864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Antenna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11640" y="4292640"/>
            <a:ext cx="1440" cy="288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3060360" y="4292640"/>
            <a:ext cx="1150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060720" y="393372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88000" y="3933360"/>
            <a:ext cx="1440" cy="5749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0872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653080" y="522936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T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65164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060720" y="3573360"/>
            <a:ext cx="32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305892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65308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427640" y="1773360"/>
            <a:ext cx="100620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ower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35280" y="2492280"/>
            <a:ext cx="13669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492000" y="2852640"/>
            <a:ext cx="431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812000" y="2852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133800" y="3357720"/>
            <a:ext cx="3384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YO TEMP &amp; CAL NOISE CONTRO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139200" y="3716280"/>
            <a:ext cx="215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TENNA UNIT POWER SUPPL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137760" y="4076640"/>
            <a:ext cx="1585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GAUGE CTR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435640" y="1844640"/>
            <a:ext cx="2016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VALVE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35640" y="2276640"/>
            <a:ext cx="1438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WAR HEA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72000" y="1557000"/>
            <a:ext cx="0" cy="2142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11640" y="1197000"/>
            <a:ext cx="72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5435640" y="2276640"/>
            <a:ext cx="151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474920" y="2060640"/>
            <a:ext cx="1584360" cy="403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474920" y="5589720"/>
            <a:ext cx="1511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96360" y="5157720"/>
            <a:ext cx="86508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um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020000" y="5805360"/>
            <a:ext cx="43164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cuu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Valv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659640" y="5877000"/>
            <a:ext cx="36036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451640" y="5877000"/>
            <a:ext cx="14472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7236000" y="206064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8244000" y="1844280"/>
            <a:ext cx="0" cy="331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92720" y="1628640"/>
            <a:ext cx="244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MAIN POW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5292720" y="1557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859280" y="1197000"/>
            <a:ext cx="9302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804000" y="5300640"/>
            <a:ext cx="28728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659640" y="5373720"/>
            <a:ext cx="14436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04000" y="5300640"/>
            <a:ext cx="3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ool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Hea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435640" y="2060640"/>
            <a:ext cx="1873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OL HEAD POWER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5435280" y="20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6948360" y="227664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84360" y="2349360"/>
            <a:ext cx="57492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3860640"/>
            <a:ext cx="2174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3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43280" y="3500280"/>
            <a:ext cx="21600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3280" y="422100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265480" y="1773360"/>
            <a:ext cx="1440" cy="287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1413000"/>
            <a:ext cx="719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1186920" y="479736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28720" y="4581360"/>
            <a:ext cx="566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1186920" y="530064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01800" y="508464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843280" y="458136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03640" y="5157720"/>
            <a:ext cx="576360" cy="93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nv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60720" y="4653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92360" y="465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133800" y="4437000"/>
            <a:ext cx="1326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X I/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6720" y="5229360"/>
            <a:ext cx="43164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Local Oscillato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92360" y="515772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00364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16360" y="4941720"/>
            <a:ext cx="21600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508720" y="5373720"/>
            <a:ext cx="287280" cy="73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Cal Nois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083280" y="5229360"/>
            <a:ext cx="43200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D / VLBI MOD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4797360"/>
            <a:ext cx="36036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SPARE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474920" y="3357720"/>
            <a:ext cx="21564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5435640" y="1844640"/>
            <a:ext cx="2806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635280" y="2637000"/>
            <a:ext cx="1943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CUUM PUMP CONTRO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114200" y="34322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474920" y="364500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74920" y="400536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357336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506920" y="530064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3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51640" y="530064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(T4)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74920" y="4365720"/>
            <a:ext cx="215640" cy="142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2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1186920" y="371808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1186920" y="407844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H="1">
            <a:off x="1186920" y="443880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39640" y="2924280"/>
            <a:ext cx="97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CK-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L SYN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WIT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82560" y="350208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82560" y="386244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82560" y="4222800"/>
            <a:ext cx="83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S.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90560" y="5013360"/>
            <a:ext cx="1152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843280" y="263700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15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474920" y="5229360"/>
            <a:ext cx="21564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J4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268360" y="2276640"/>
            <a:ext cx="214560" cy="86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4161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64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474920" y="4724280"/>
            <a:ext cx="217440" cy="144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9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4869000"/>
            <a:ext cx="865080" cy="142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IN 41612 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96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692360" y="2276640"/>
            <a:ext cx="576000" cy="865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r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w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268360" y="3141720"/>
            <a:ext cx="216000" cy="214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2924280"/>
            <a:ext cx="21600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25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2708280"/>
            <a:ext cx="14292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DC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PI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3058920" y="270792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132720" y="2924280"/>
            <a:ext cx="51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ADIXE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132000" y="2565360"/>
            <a:ext cx="5763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VARIAN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3058920" y="2924280"/>
            <a:ext cx="433080" cy="73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627280" y="2637000"/>
            <a:ext cx="217440" cy="43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556000" y="2708280"/>
            <a:ext cx="43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INT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CONN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BOARD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419640" y="4724280"/>
            <a:ext cx="431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5BIT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I/O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6237360"/>
            <a:ext cx="201600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Arial"/>
              </a:rPr>
              <a:t>USE ‘D’ 37F CONNECTORS FOR LNAs BIA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lessandro Cattani</cp:lastModifiedBy>
  <dcterms:modified xsi:type="dcterms:W3CDTF">2009-09-28T13:48:06Z</dcterms:modified>
  <cp:revision>80</cp:revision>
  <dc:subject/>
  <dc:title>Schema a blocchi controllo Dewar</dc:title>
</cp:coreProperties>
</file>