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18300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EAE4F-FB90-4295-8F63-9BE4F41FE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42764-7CBC-47B7-A6A7-27109799A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95F51-12C1-4635-8140-0C75E61F5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7CB3B-C3F0-4CA1-AC10-492655986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F7197-4033-42F3-A7C2-D00EF7821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29BCB-3B40-4082-98C4-631BED4FB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A4390-D921-43B4-93DE-9EC19876C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0C9D6-5A42-42E4-AA45-2D00832B9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1021B-71FC-4AA9-A18D-3990E495D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203BC-1174-4400-9ECB-B49A6B6A8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FBF9D-45B4-40E9-BC9A-6DCAE59F3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CC1C1-59C0-4777-877D-70684BBEF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8CAE1-0255-43F2-A074-2F9501CD54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560" y="691920"/>
            <a:ext cx="4969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Rx 18.26 GHz</a:t>
            </a:r>
            <a:br>
              <a:rPr sz="1800"/>
            </a:b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LNAs Bias Supply Block Dia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4365720"/>
            <a:ext cx="108108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50920" y="4581360"/>
            <a:ext cx="9367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µ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938920" y="5014800"/>
            <a:ext cx="151272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227640" y="4799160"/>
            <a:ext cx="28908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50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7564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50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22764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37056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37056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02000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020000" y="2565360"/>
            <a:ext cx="0" cy="223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372360" y="299736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62200" y="2133720"/>
            <a:ext cx="1514520" cy="381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63640" y="5373720"/>
            <a:ext cx="151308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eceiver Control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57480" y="2852640"/>
            <a:ext cx="216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50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56040" y="3427560"/>
            <a:ext cx="215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191124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24320" y="1341360"/>
            <a:ext cx="65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313524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849760" y="1341360"/>
            <a:ext cx="566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S2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255888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341800" y="134136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1640" y="5013360"/>
            <a:ext cx="1368360" cy="93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73480" y="400536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4570560" y="4005360"/>
            <a:ext cx="144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229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37236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29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37236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23088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87708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02000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878520" y="5157720"/>
            <a:ext cx="14472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021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878520" y="523080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021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87564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188240" y="5373720"/>
            <a:ext cx="1372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1st Conver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7+7 LN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42764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07528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42764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57056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57056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1964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2908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2908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200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2764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07672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1964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07852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221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07852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21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07528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79640" y="2349360"/>
            <a:ext cx="1079640" cy="187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08000" y="2997360"/>
            <a:ext cx="1152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LNAs Bias 7 PC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057480" y="2421000"/>
            <a:ext cx="216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50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057480" y="3860640"/>
            <a:ext cx="216000" cy="28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273480" y="357336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219640" y="3573360"/>
            <a:ext cx="0" cy="122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73480" y="2997360"/>
            <a:ext cx="30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350880" y="2781360"/>
            <a:ext cx="183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LHCP LNAs BIAS (COOL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273480" y="2565360"/>
            <a:ext cx="37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351240" y="2349360"/>
            <a:ext cx="1860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COOL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54840" y="3357720"/>
            <a:ext cx="172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WAR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54840" y="3789360"/>
            <a:ext cx="172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WAR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155640" y="5373720"/>
            <a:ext cx="1087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ew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7+7 LN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5T13:58:58Z</dcterms:created>
  <dc:creator>A.Cattani</dc:creator>
  <dc:description/>
  <dc:language>en-US</dc:language>
  <cp:lastModifiedBy>A.Cattani</cp:lastModifiedBy>
  <dcterms:modified xsi:type="dcterms:W3CDTF">2008-09-11T13:44:54Z</dcterms:modified>
  <cp:revision>33</cp:revision>
  <dc:subject/>
  <dc:title>Schema a blocchi controllo Dewar</dc:title>
</cp:coreProperties>
</file>