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18300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DF7D9-2179-4FED-9315-3E3E9C6F7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457C1-0ACA-4F76-AC38-4AC7ED46D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DDD99-1741-4ADC-AE11-7418363E3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C570C-CC5A-4713-9DC6-4E45EA1D0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07837-39B9-418C-895E-C3491661E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29250-C43C-493C-A5A1-2317BB80D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74595-FD4F-4712-8A9B-6F5A767CE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71330-D50F-4938-8F2A-A1CF01F2E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F0D57-4410-4578-AABF-79090AA50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C18D7-E6E0-4CDF-BE00-C9D2D3290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5A5B2-9A39-4AD3-A070-B6D91D547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218BF-A151-484F-B6D1-45F912024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380FC-BC7C-4363-A200-3A701CDAA3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50560" y="475920"/>
            <a:ext cx="49690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Rx 18-26 GHz</a:t>
            </a:r>
            <a:br>
              <a:rPr sz="1800"/>
            </a:b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Control System Block Diagram (2nd Vers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92360" y="3357720"/>
            <a:ext cx="1150920" cy="151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19280" y="38606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ack-Plane Adap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24360" y="5157720"/>
            <a:ext cx="273528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067280" y="4581360"/>
            <a:ext cx="288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138560" y="5013360"/>
            <a:ext cx="14436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995640" y="4653000"/>
            <a:ext cx="432000" cy="2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Gaug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788000" y="4797360"/>
            <a:ext cx="730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508720" y="4941720"/>
            <a:ext cx="2887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4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00720" y="544500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Dew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156360" y="4941720"/>
            <a:ext cx="2887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7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43280" y="450864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Antenna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11640" y="4292640"/>
            <a:ext cx="1440" cy="288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060360" y="429264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060720" y="393372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4788000" y="3933360"/>
            <a:ext cx="1440" cy="57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508720" y="522936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T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653080" y="522936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T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65164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060720" y="3573360"/>
            <a:ext cx="324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3058920" y="242100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653080" y="357336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7640" y="1773360"/>
            <a:ext cx="1006200" cy="79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ry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Power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435280" y="2492280"/>
            <a:ext cx="1366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3492000" y="2852640"/>
            <a:ext cx="431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7812000" y="2852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33800" y="3357720"/>
            <a:ext cx="338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YO TEMP &amp; CAL NOISE CONTRO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139200" y="3716280"/>
            <a:ext cx="215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TENNA UNIT POWER SUPP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37760" y="4076640"/>
            <a:ext cx="15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GAUGE CTR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435640" y="1844640"/>
            <a:ext cx="201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VALVE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5640" y="227664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WAR HEA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4572000" y="1557000"/>
            <a:ext cx="0" cy="214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211640" y="1197000"/>
            <a:ext cx="72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5435640" y="2276640"/>
            <a:ext cx="151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474920" y="2060640"/>
            <a:ext cx="1584360" cy="403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474920" y="5589720"/>
            <a:ext cx="1511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Receiver Control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596360" y="5157720"/>
            <a:ext cx="86508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Pum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020000" y="5805360"/>
            <a:ext cx="43164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lv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659640" y="5877000"/>
            <a:ext cx="36036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451640" y="5877000"/>
            <a:ext cx="14472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7236000" y="2060640"/>
            <a:ext cx="0" cy="3744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8244000" y="1844280"/>
            <a:ext cx="0" cy="331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292720" y="1628640"/>
            <a:ext cx="244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PUMP MAIN POW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5292720" y="1557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859280" y="1197000"/>
            <a:ext cx="930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OL HE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804000" y="5300640"/>
            <a:ext cx="28728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659640" y="5373720"/>
            <a:ext cx="14436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04000" y="530064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Cool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Head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435640" y="2060640"/>
            <a:ext cx="187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OL HEAD POWER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5435280" y="206064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6948360" y="2276640"/>
            <a:ext cx="0" cy="3024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484360" y="2349360"/>
            <a:ext cx="57492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843280" y="3860640"/>
            <a:ext cx="2174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3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843280" y="3500280"/>
            <a:ext cx="21600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843280" y="422100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9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2265480" y="1773360"/>
            <a:ext cx="1440" cy="287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908000" y="1413000"/>
            <a:ext cx="719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1186920" y="479736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828720" y="4581360"/>
            <a:ext cx="566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S2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1186920" y="530064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01800" y="508464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843280" y="458136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1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03640" y="5157720"/>
            <a:ext cx="576360" cy="935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onv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060720" y="465300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492360" y="465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133800" y="4437000"/>
            <a:ext cx="1326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X I/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76720" y="5229360"/>
            <a:ext cx="43164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Local Oscillato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49236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003640" y="4941720"/>
            <a:ext cx="216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716360" y="4941720"/>
            <a:ext cx="216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508720" y="5373720"/>
            <a:ext cx="28728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Cal Nois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083280" y="5229360"/>
            <a:ext cx="43200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SD / VLBI MOD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932360" y="4797360"/>
            <a:ext cx="360360" cy="15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SPAR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474920" y="3357720"/>
            <a:ext cx="215640" cy="142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5435640" y="1844640"/>
            <a:ext cx="2806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635280" y="2637000"/>
            <a:ext cx="1943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PUMP CONTRO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1114200" y="34322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474920" y="364500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74920" y="400536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300720" y="357336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506920" y="5300640"/>
            <a:ext cx="14472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T3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51640" y="530064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T4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474920" y="436572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1186920" y="371808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1186920" y="407844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1186920" y="443880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39640" y="2924280"/>
            <a:ext cx="974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CK-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L SYN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WIT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82560" y="350208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82560" y="386244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82560" y="422280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690560" y="5013360"/>
            <a:ext cx="115272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µP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843280" y="2637000"/>
            <a:ext cx="21600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15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474920" y="5229360"/>
            <a:ext cx="21564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J4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268360" y="2276640"/>
            <a:ext cx="214560" cy="86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4161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64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474920" y="472428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9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835280" y="4869000"/>
            <a:ext cx="865080" cy="142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IN 41612 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96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692360" y="2276640"/>
            <a:ext cx="576000" cy="86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y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w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oa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68360" y="3141720"/>
            <a:ext cx="216000" cy="214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D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0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2924280"/>
            <a:ext cx="21600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2708280"/>
            <a:ext cx="142920" cy="28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D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H="1" flipV="1">
            <a:off x="3058920" y="2707920"/>
            <a:ext cx="433080" cy="7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132720" y="2924280"/>
            <a:ext cx="5115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ADIXE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132000" y="2565360"/>
            <a:ext cx="5763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VARIA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3058920" y="2924280"/>
            <a:ext cx="433080" cy="7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627280" y="2637000"/>
            <a:ext cx="217440" cy="43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556000" y="2708280"/>
            <a:ext cx="43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NT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CON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BOARD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419640" y="4724280"/>
            <a:ext cx="43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5BIT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I/O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476360" y="6237360"/>
            <a:ext cx="20160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700" spc="-1" strike="noStrike">
                <a:solidFill>
                  <a:srgbClr val="000000"/>
                </a:solidFill>
                <a:latin typeface="Arial"/>
              </a:rPr>
              <a:t>USE ‘D’ 37F CONNECTORS FOR LNAs BIA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5T13:58:58Z</dcterms:created>
  <dc:creator>A.Cattani</dc:creator>
  <dc:description/>
  <dc:language>en-US</dc:language>
  <cp:lastModifiedBy>Alessandro Cattani</cp:lastModifiedBy>
  <dcterms:modified xsi:type="dcterms:W3CDTF">2009-09-28T13:48:06Z</dcterms:modified>
  <cp:revision>80</cp:revision>
  <dc:subject/>
  <dc:title>Schema a blocchi controllo Dewar</dc:title>
</cp:coreProperties>
</file>