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49D8-24C6-4777-92AA-D7E239082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CA3E-A049-46DA-B76A-DE0F5351F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7365-6058-42B3-893C-706927C3E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ACB5-19C9-4107-80CE-00FAF8CD9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91F5-173F-4767-AB7D-1290709ED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A89D-5E76-4D1A-92E6-118E0BA69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1231-A05B-4236-B2EB-0475CDCBB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561A-2DA4-4AF6-B046-1708EF7B1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D3A7-1CE8-4721-B3D9-301993483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9FC6-9181-4E57-8E7D-C31B3A5B5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6693-9F48-4F4A-A455-7DA61C77B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148F-3270-447D-9386-00D327E67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BBC0F-84EA-4432-BEE4-A6D5C0632A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691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.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LNAs Bias Supply Block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4365720"/>
            <a:ext cx="108108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4581360"/>
            <a:ext cx="936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938920" y="5014800"/>
            <a:ext cx="151272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227640" y="4799160"/>
            <a:ext cx="2890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75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22764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37056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3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02000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020000" y="2565360"/>
            <a:ext cx="0" cy="223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372360" y="299736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62200" y="2133720"/>
            <a:ext cx="1514520" cy="381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63640" y="5373720"/>
            <a:ext cx="15130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57480" y="285264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56040" y="3427560"/>
            <a:ext cx="215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911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24320" y="1341360"/>
            <a:ext cx="65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135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49760" y="1341360"/>
            <a:ext cx="566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55888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1800" y="134136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1640" y="5013360"/>
            <a:ext cx="1368360" cy="93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3480" y="400536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4570560" y="4005360"/>
            <a:ext cx="1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29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7236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29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37236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2308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7708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2000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78520" y="515772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0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78520" y="523080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75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188240" y="5373720"/>
            <a:ext cx="137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1st Conver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27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7528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27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056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1964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2908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2908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27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7672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19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7852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2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7852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752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79640" y="2349360"/>
            <a:ext cx="1079640" cy="187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2997360"/>
            <a:ext cx="115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NAs Bias 7 PC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57480" y="242100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57480" y="3860640"/>
            <a:ext cx="21600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73480" y="357336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219640" y="3573360"/>
            <a:ext cx="0" cy="122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73480" y="2997360"/>
            <a:ext cx="30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350880" y="2781360"/>
            <a:ext cx="183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L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73480" y="2565360"/>
            <a:ext cx="37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51240" y="2349360"/>
            <a:ext cx="186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54840" y="335772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54840" y="378936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55640" y="5373720"/>
            <a:ext cx="108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.Cattani</cp:lastModifiedBy>
  <dcterms:modified xsi:type="dcterms:W3CDTF">2008-09-11T13:44:54Z</dcterms:modified>
  <cp:revision>33</cp:revision>
  <dc:subject/>
  <dc:title>Schema a blocchi controllo Dewar</dc:title>
</cp:coreProperties>
</file>