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29AB-A6C2-42B8-94B4-C329DE8DC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0D4C-BF42-4B79-8612-B02252063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61D1-ECB3-4A2C-898A-F933423C8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874B-9F31-4786-87FA-636232205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02E4-0FA4-454C-8D99-72DFBB01E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860C-61CB-4EB4-A3D4-B22B81B20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CAD8-F388-4048-B7B7-58CE860D3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2C57-0838-45C3-9DAD-8F4D0A768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98F6-5590-4527-A7DA-337D147FD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CC5E-07AD-4D7B-89F3-473452F15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9713-5DCF-4ECF-A327-D855BFBA7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59DE-61C2-4A61-9BB0-16AD8ED87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253DF-0A2A-4E7A-A64B-997A241C0A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691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.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LNAs Bias Supply Block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4365720"/>
            <a:ext cx="108108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4581360"/>
            <a:ext cx="936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938920" y="5014800"/>
            <a:ext cx="151272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227640" y="4799160"/>
            <a:ext cx="2890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75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22764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37056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3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02000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020000" y="2565360"/>
            <a:ext cx="0" cy="223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372360" y="299736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62200" y="2133720"/>
            <a:ext cx="1514520" cy="381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63640" y="5373720"/>
            <a:ext cx="15130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57480" y="285264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56040" y="3427560"/>
            <a:ext cx="215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911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24320" y="1341360"/>
            <a:ext cx="65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135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49760" y="1341360"/>
            <a:ext cx="566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55888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1800" y="134136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1640" y="5013360"/>
            <a:ext cx="1368360" cy="93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3480" y="400536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4570560" y="4005360"/>
            <a:ext cx="1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29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7236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29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37236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2308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7708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2000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78520" y="515772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0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78520" y="523080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75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188240" y="5373720"/>
            <a:ext cx="137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1st Conver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27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7528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27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056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1964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2908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2908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27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7672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19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7852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2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7852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752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79640" y="2349360"/>
            <a:ext cx="1079640" cy="187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2997360"/>
            <a:ext cx="115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NAs Bias 7 PC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57480" y="242100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57480" y="3860640"/>
            <a:ext cx="21600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73480" y="357336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219640" y="3573360"/>
            <a:ext cx="0" cy="122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73480" y="2997360"/>
            <a:ext cx="30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350880" y="2781360"/>
            <a:ext cx="183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L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73480" y="2565360"/>
            <a:ext cx="37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51240" y="2349360"/>
            <a:ext cx="186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54840" y="335772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54840" y="378936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55640" y="5373720"/>
            <a:ext cx="108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.Cattani</cp:lastModifiedBy>
  <dcterms:modified xsi:type="dcterms:W3CDTF">2008-09-11T13:44:54Z</dcterms:modified>
  <cp:revision>33</cp:revision>
  <dc:subject/>
  <dc:title>Schema a blocchi controllo Dewar</dc:title>
</cp:coreProperties>
</file>