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18300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BDD02-FC98-4386-9F66-2B73EC36F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A2B95-CB14-4244-B23E-7046223E9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9654A-C6A2-4EE6-A176-0F8E8BD0A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3C827-B645-40B9-9D1F-B907A5FD6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73824-8127-4987-B550-B04593172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CBDA5-F4F4-4705-B91A-207B32BCF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2CA8A-236C-42C7-9D92-5271D9CB4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2DBB2-4FB2-46E5-9038-3CA7ABE7E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DC885-BB80-4F21-A55E-F4EC76118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2EAA6-38C7-4694-9EEE-D1BB982FB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F4F80-C1AB-42FF-8000-AB2994BFE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F6EC0-D62D-4C47-81D7-D9501C3CC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006C1-4186-4C21-8C7D-7F3B60DAFC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560" y="691920"/>
            <a:ext cx="4969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Rx 18.26 GHz</a:t>
            </a:r>
            <a:br>
              <a:rPr sz="1800"/>
            </a:b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LNAs Bias Supply Block Dia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4365720"/>
            <a:ext cx="108108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50920" y="4581360"/>
            <a:ext cx="9367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µ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938920" y="5014800"/>
            <a:ext cx="151272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227640" y="4799160"/>
            <a:ext cx="28908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50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7564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50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22764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37056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37056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02000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020000" y="2565360"/>
            <a:ext cx="0" cy="223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372360" y="299736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62200" y="2133720"/>
            <a:ext cx="1514520" cy="381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63640" y="5373720"/>
            <a:ext cx="151308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eceiver Control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57480" y="2852640"/>
            <a:ext cx="216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50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56040" y="3427560"/>
            <a:ext cx="215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191124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24320" y="1341360"/>
            <a:ext cx="65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313524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849760" y="1341360"/>
            <a:ext cx="566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S2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255888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341800" y="134136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1640" y="5013360"/>
            <a:ext cx="1368360" cy="93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73480" y="400536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4570560" y="4005360"/>
            <a:ext cx="144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229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37236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29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37236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23088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87708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02000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878520" y="5157720"/>
            <a:ext cx="14472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021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878520" y="523080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021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87564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188240" y="5373720"/>
            <a:ext cx="1372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1st Conver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7+7 LN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42764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07528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42764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57056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57056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1964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2908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2908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200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2764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07672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1964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07852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221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07852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21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07528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79640" y="2349360"/>
            <a:ext cx="1079640" cy="187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08000" y="2997360"/>
            <a:ext cx="1152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LNAs Bias 7 PC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057480" y="2421000"/>
            <a:ext cx="216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50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057480" y="3860640"/>
            <a:ext cx="216000" cy="28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273480" y="357336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219640" y="3573360"/>
            <a:ext cx="0" cy="122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73480" y="2997360"/>
            <a:ext cx="30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350880" y="2781360"/>
            <a:ext cx="183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LHCP LNAs BIAS (COOL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273480" y="2565360"/>
            <a:ext cx="37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351240" y="2349360"/>
            <a:ext cx="1860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COOL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54840" y="3357720"/>
            <a:ext cx="172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WAR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54840" y="3789360"/>
            <a:ext cx="172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WAR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155640" y="5373720"/>
            <a:ext cx="1087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ew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7+7 LN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5T13:58:58Z</dcterms:created>
  <dc:creator>A.Cattani</dc:creator>
  <dc:description/>
  <dc:language>en-US</dc:language>
  <cp:lastModifiedBy>A.Cattani</cp:lastModifiedBy>
  <dcterms:modified xsi:type="dcterms:W3CDTF">2008-09-11T13:44:54Z</dcterms:modified>
  <cp:revision>33</cp:revision>
  <dc:subject/>
  <dc:title>Schema a blocchi controllo Dewar</dc:title>
</cp:coreProperties>
</file>